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5E6-7CF1-46BB-9A81-BCAB5AB2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AD2-12AE-4C4A-A9E8-01B67740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C5E-BAE4-4BEF-AD36-A8C65DA2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66D-54C7-4A7B-A50A-CC5C69DB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C353-C1ED-40C4-AC3F-A28D88F0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019D-F2F0-4923-A822-FA5231DF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FD86-D8E0-4C1D-A57C-E89DFC1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4587-C569-4E40-9A7A-AD151A0F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0F77-C990-4A42-B6C8-D8D391C1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4BCE-A42A-4341-A156-8AA862D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52F-C9AF-4D29-B429-C936B508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3A9-11F3-49C7-A7C3-485C7A4F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0DA7-04DA-4AAC-B05A-0D0065F8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3D62-F27B-4A4B-8AB6-A1BBA753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5D40-2029-4F45-8834-702BB44E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F2F6-1CB7-447A-91A4-238C0DB6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31D8-5658-4F0C-B192-4681891E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132-7BB0-4878-A2D8-81097058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0CE-617D-4F10-99AC-868DB80A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778-3CC3-49B7-949C-31D0E16D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919-A9E5-4D9B-A5C1-ECCD20B5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694-DAFA-491E-A999-1B39768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25B-E44B-48F6-9A31-0DF20FAD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742-7A0F-4931-9E59-11D6BEA9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4755-B774-41E4-9837-BC788D0A8DE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2A54-A89F-43DA-8D90-48B1C2B5C00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NUMELE PERSON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CAPITULA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3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352680" y="533520"/>
            <a:ext cx="1676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FINIT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2438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ARTEA DE VORBIRE CARE TINE LOCUL UNUI SUBSTANTIV SE NUMESTE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PRONUM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5720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SCOAL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ESTE FRUMOAS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E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ESTE FRUMOAS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09480"/>
            <a:ext cx="7772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RONUMELE CARE INDICA DIFERITE PERSOA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</a:t>
            </a: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EU , TU , EL , EA , NOI , VOI , EI , ELE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) SUNT </a:t>
            </a: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PRONUM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PERSONALE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342900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MAM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CITESTE O CAR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CITESTE O CAR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5105520"/>
            <a:ext cx="419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TATA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UNCESTE LA FABRIC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MUNCESTE LA FABRIC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048120" y="533520"/>
            <a:ext cx="258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MARU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666880"/>
            <a:ext cx="3505320" cy="3200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UL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T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4120" y="2590920"/>
            <a:ext cx="3504960" cy="3200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URA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NO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VO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2666880"/>
            <a:ext cx="3505320" cy="3200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UL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T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2666880"/>
            <a:ext cx="3505320" cy="3200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UL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T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8120" y="533520"/>
            <a:ext cx="2819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SOA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76400" y="2573280"/>
            <a:ext cx="33912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                        E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Ia                     T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IIa                    EL , 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1676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UMARUL SINGUL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895480" y="304920"/>
            <a:ext cx="28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SOA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790720" y="2001960"/>
            <a:ext cx="356256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                           NO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I a                     VO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IIa                     EI , E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1143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UMARUL PLURA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7:33:56Z</dcterms:created>
  <dc:creator>pisu</dc:creator>
  <dc:description/>
  <dc:language>en-US</dc:language>
  <cp:lastModifiedBy>pisu</cp:lastModifiedBy>
  <dcterms:modified xsi:type="dcterms:W3CDTF">2007-02-24T18:08:22Z</dcterms:modified>
  <cp:revision>2</cp:revision>
  <dc:subject/>
  <dc:title>PRONUMELE PERSONAL</dc:title>
</cp:coreProperties>
</file>